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530-5C55-400A-81C5-043BEA75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22F8-D4BC-4EB3-A9CB-C2B5101B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D1CE-4254-4797-A7C0-E0FEE5A1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C957-DCFC-491D-ABA4-D4F09D52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C04E-A57B-4469-99CC-0AEC93AA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BE58-11EE-4AEA-9B89-A9E7A07E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21BF-A46D-4145-A11D-91DCDC1F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CDE2-A796-4867-B7D8-4CC08634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223E-91D4-49AF-8446-496F037D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BCD2-EB0F-4621-ACDE-23EC63F4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9129-ACA0-4743-9E1E-972ACC72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A08-AD09-43C3-8F8F-B9E73E6E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3012-389B-46AC-A6E5-564E67D7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E87E-B2EE-4B1C-87C9-0C8B2322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A886-2050-41BF-AD65-F4CB76F6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768A-8DD5-4E99-81FF-3FF46409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8009-980E-42E7-9C4C-8D7A52D0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0AE1-4352-4C95-9B75-0917BE13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24CE-4412-478D-9A19-F0B8E1A7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4AB5-6F16-46A8-BF76-BA9B1F95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C41-95D5-44CF-90CC-1AECA012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652F-D4DA-47F3-9FD5-8EBBE136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4B1-7E9D-4636-9B42-54138A22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979-A7A9-47B8-B5C6-276B1E5E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9C8F-1123-4C46-A7E2-932372A799F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DCF5-39CC-4E16-99AA-E547A6FBC79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800" spc="-1" strike="noStrike">
                <a:solidFill>
                  <a:srgbClr val="ff3300"/>
                </a:solidFill>
                <a:latin typeface="Abadi MT Condensed Light"/>
                <a:ea typeface="超研澤海報體"/>
              </a:rPr>
              <a:t>填 數 字 遊 戲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25" name="NP" descr=""/>
          <p:cNvPicPr/>
          <p:nvPr/>
        </p:nvPicPr>
        <p:blipFill>
          <a:blip r:embed="rId2"/>
          <a:stretch/>
        </p:blipFill>
        <p:spPr>
          <a:xfrm>
            <a:off x="2438280" y="1752480"/>
            <a:ext cx="4419720" cy="4368960"/>
          </a:xfrm>
          <a:prstGeom prst="rect">
            <a:avLst/>
          </a:prstGeom>
          <a:ln w="0">
            <a:noFill/>
          </a:ln>
        </p:spPr>
      </p:pic>
      <p:pic>
        <p:nvPicPr>
          <p:cNvPr id="326" name="BD21313_" descr=""/>
          <p:cNvPicPr/>
          <p:nvPr/>
        </p:nvPicPr>
        <p:blipFill>
          <a:blip r:embed="rId3"/>
          <a:stretch/>
        </p:blipFill>
        <p:spPr>
          <a:xfrm>
            <a:off x="838080" y="6400800"/>
            <a:ext cx="8061480" cy="3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800" spc="-1" strike="noStrike">
                <a:solidFill>
                  <a:srgbClr val="ff3300"/>
                </a:solidFill>
                <a:latin typeface="Abadi MT Condensed Light"/>
                <a:ea typeface="超研澤海報體"/>
              </a:rPr>
              <a:t>遊戲規則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mazone BT"/>
                <a:ea typeface="超研澤粗隸"/>
              </a:rPr>
              <a:t>「</a:t>
            </a:r>
            <a:r>
              <a:rPr b="0" lang="zh-TW" sz="3200" spc="-1" strike="noStrike">
                <a:solidFill>
                  <a:srgbClr val="ff3300"/>
                </a:solidFill>
                <a:latin typeface="Amazone BT"/>
                <a:ea typeface="超研澤粗隸"/>
              </a:rPr>
              <a:t>填數字遊戲</a:t>
            </a:r>
            <a:r>
              <a:rPr b="0" lang="zh-TW" sz="3200" spc="-1" strike="noStrike">
                <a:solidFill>
                  <a:srgbClr val="000000"/>
                </a:solidFill>
                <a:latin typeface="Amazone BT"/>
                <a:ea typeface="超研澤粗隸"/>
              </a:rPr>
              <a:t>」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  <a:ea typeface="Arial Narrow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  <a:ea typeface="Arial Narrow"/>
              </a:rPr>
              <a:t>NUMBERPLA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 Narrow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mazone BT"/>
                <a:ea typeface="超研澤中粗隸"/>
              </a:rPr>
              <a:t>是一種風靡歐美及日本的推理遊戲。規則是要求在由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r>
              <a:rPr b="0" lang="zh-TW" sz="3200" spc="-1" strike="noStrike">
                <a:solidFill>
                  <a:srgbClr val="000000"/>
                </a:solidFill>
                <a:latin typeface="Amazone BT"/>
                <a:ea typeface="超研澤中粗隸"/>
              </a:rPr>
              <a:t>個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 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超研澤中粗隸"/>
              </a:rPr>
              <a:t>的</a:t>
            </a:r>
            <a:r>
              <a:rPr b="0" lang="zh-TW" sz="3200" spc="-1" strike="noStrike">
                <a:solidFill>
                  <a:srgbClr val="000000"/>
                </a:solidFill>
                <a:latin typeface="Amazone BT"/>
                <a:ea typeface="超研澤中粗隸"/>
              </a:rPr>
              <a:t>方格所組成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 9</a:t>
            </a:r>
            <a:r>
              <a:rPr b="0" lang="zh-TW" sz="3200" spc="-1" strike="noStrike">
                <a:solidFill>
                  <a:srgbClr val="000000"/>
                </a:solidFill>
                <a:latin typeface="Amazone BT"/>
                <a:ea typeface="超研澤中粗隸"/>
              </a:rPr>
              <a:t>的方格內填入數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超研澤中粗隸"/>
              </a:rPr>
              <a:t>1~9</a:t>
            </a:r>
            <a:r>
              <a:rPr b="0" lang="zh-TW" sz="3200" spc="-1" strike="noStrike">
                <a:solidFill>
                  <a:srgbClr val="000000"/>
                </a:solidFill>
                <a:latin typeface="Amazone BT"/>
                <a:ea typeface="超研澤中粗隸"/>
              </a:rPr>
              <a:t>，使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超研澤中粗隸"/>
              </a:rPr>
              <a:t>1~9</a:t>
            </a:r>
            <a:r>
              <a:rPr b="0" lang="zh-TW" sz="3200" spc="-1" strike="noStrike">
                <a:solidFill>
                  <a:srgbClr val="000000"/>
                </a:solidFill>
                <a:latin typeface="Amazone BT"/>
                <a:ea typeface="超研澤中粗隸"/>
              </a:rPr>
              <a:t>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超研澤中粗隸"/>
              </a:rPr>
              <a:t>9</a:t>
            </a:r>
            <a:r>
              <a:rPr b="0" lang="zh-TW" sz="3200" spc="-1" strike="noStrike">
                <a:solidFill>
                  <a:srgbClr val="000000"/>
                </a:solidFill>
                <a:latin typeface="Amazone BT"/>
                <a:ea typeface="超研澤中粗隸"/>
              </a:rPr>
              <a:t>個數字在每一行、每一列都恰只出現一次，而且在每一個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 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超研澤中粗隸"/>
              </a:rPr>
              <a:t>的小</a:t>
            </a:r>
            <a:r>
              <a:rPr b="0" lang="zh-TW" sz="3200" spc="-1" strike="noStrike">
                <a:solidFill>
                  <a:srgbClr val="000000"/>
                </a:solidFill>
                <a:latin typeface="Amazone BT"/>
                <a:ea typeface="超研澤中粗隸"/>
              </a:rPr>
              <a:t>方格表內也都恰只出現一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超研澤中粗隸"/>
              </a:rPr>
              <a:t>。換句話說，這一個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9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 9</a:t>
            </a:r>
            <a:r>
              <a:rPr b="0" lang="zh-TW" sz="3200" spc="-1" strike="noStrike">
                <a:solidFill>
                  <a:srgbClr val="000000"/>
                </a:solidFill>
                <a:latin typeface="Amazone BT"/>
                <a:ea typeface="超研澤中粗隸"/>
              </a:rPr>
              <a:t>的方陣滿足「</a:t>
            </a:r>
            <a:r>
              <a:rPr b="0" lang="zh-TW" sz="3200" spc="-1" strike="noStrike">
                <a:solidFill>
                  <a:srgbClr val="ff3300"/>
                </a:solidFill>
                <a:latin typeface="Amazone BT"/>
                <a:ea typeface="超研澤中粗隸"/>
              </a:rPr>
              <a:t>拉丁方陣</a:t>
            </a:r>
            <a:r>
              <a:rPr b="0" lang="zh-TW" sz="3200" spc="-1" strike="noStrike">
                <a:solidFill>
                  <a:srgbClr val="000000"/>
                </a:solidFill>
                <a:latin typeface="Amazone BT"/>
                <a:ea typeface="超研澤中粗隸"/>
              </a:rPr>
              <a:t>」的條件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800" spc="-1" strike="noStrike">
                <a:solidFill>
                  <a:srgbClr val="ff3300"/>
                </a:solidFill>
                <a:latin typeface="Amazone BT"/>
                <a:ea typeface="超研澤海報體"/>
              </a:rPr>
              <a:t>簡易的方法運用</a:t>
            </a:r>
            <a:r>
              <a:rPr b="0" i="1" lang="zh-TW" sz="4800" spc="-1" strike="noStrike">
                <a:solidFill>
                  <a:srgbClr val="ff3300"/>
                </a:solidFill>
                <a:latin typeface="Abadi MT Condensed Light"/>
                <a:ea typeface="超研澤海報體"/>
              </a:rPr>
              <a:t> 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197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7200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ahoma"/>
                <a:ea typeface="超研澤粗仿"/>
              </a:rPr>
              <a:t>圖一，第一個九宮格內並不存在數字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zh-TW" sz="2600" spc="-1" strike="noStrike">
                <a:solidFill>
                  <a:srgbClr val="000000"/>
                </a:solidFill>
                <a:latin typeface="Tahoma"/>
                <a:ea typeface="超研澤粗仿"/>
              </a:rPr>
              <a:t>，但由於第二及第三個九宮格的數字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zh-TW" sz="2600" spc="-1" strike="noStrike">
                <a:solidFill>
                  <a:srgbClr val="000000"/>
                </a:solidFill>
                <a:latin typeface="Tahoma"/>
                <a:ea typeface="超研澤粗仿"/>
              </a:rPr>
              <a:t>，分別佔據第一列與第二列，所以，第一個九宮格的數字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zh-TW" sz="2600" spc="-1" strike="noStrike">
                <a:solidFill>
                  <a:srgbClr val="000000"/>
                </a:solidFill>
                <a:latin typeface="Tahoma"/>
                <a:ea typeface="超研澤粗仿"/>
              </a:rPr>
              <a:t>，只能是在第三列的位置，即這時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超研澤粗仿"/>
              </a:rPr>
              <a:t>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超研澤粗仿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18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1" name="corel040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5029200" cy="16826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762120" y="4724280"/>
            <a:ext cx="5790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19320" y="4419720"/>
            <a:ext cx="1600200" cy="15238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" y="5257800"/>
            <a:ext cx="5790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44956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超研澤超圓"/>
                <a:ea typeface="超研澤超圓"/>
              </a:rPr>
              <a:t>不能是數字 </a:t>
            </a:r>
            <a:r>
              <a:rPr b="0" lang="zh-TW" sz="2000" spc="-1" strike="noStrike">
                <a:solidFill>
                  <a:srgbClr val="000000"/>
                </a:solidFill>
                <a:latin typeface="超研澤超圓"/>
                <a:ea typeface="超研澤超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29400" y="5105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超研澤超圓"/>
                <a:ea typeface="超研澤超圓"/>
              </a:rPr>
              <a:t>不能是數字 </a:t>
            </a:r>
            <a:r>
              <a:rPr b="0" lang="zh-TW" sz="2000" spc="-1" strike="noStrike">
                <a:solidFill>
                  <a:srgbClr val="000000"/>
                </a:solidFill>
                <a:latin typeface="超研澤超圓"/>
                <a:ea typeface="超研澤超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828800" y="5562720"/>
            <a:ext cx="304560" cy="228600"/>
            <a:chOff x="1828800" y="5562720"/>
            <a:chExt cx="304560" cy="228600"/>
          </a:xfrm>
        </p:grpSpPr>
        <p:sp>
          <p:nvSpPr>
            <p:cNvPr id="338" name=""/>
            <p:cNvSpPr/>
            <p:nvPr/>
          </p:nvSpPr>
          <p:spPr>
            <a:xfrm>
              <a:off x="1828800" y="5562720"/>
              <a:ext cx="3045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1828800" y="5562720"/>
              <a:ext cx="3045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362320" y="5562720"/>
            <a:ext cx="304560" cy="228600"/>
            <a:chOff x="2362320" y="5562720"/>
            <a:chExt cx="304560" cy="228600"/>
          </a:xfrm>
        </p:grpSpPr>
        <p:sp>
          <p:nvSpPr>
            <p:cNvPr id="341" name=""/>
            <p:cNvSpPr/>
            <p:nvPr/>
          </p:nvSpPr>
          <p:spPr>
            <a:xfrm>
              <a:off x="2362320" y="5562720"/>
              <a:ext cx="3045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2362320" y="5562720"/>
              <a:ext cx="3045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295280" y="5486400"/>
            <a:ext cx="381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800" spc="-1" strike="noStrike">
                <a:solidFill>
                  <a:srgbClr val="ff3300"/>
                </a:solidFill>
                <a:latin typeface="Amazone BT"/>
                <a:ea typeface="超研澤海報體"/>
              </a:rPr>
              <a:t>簡易的方法運用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20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超研澤粗仿"/>
              </a:rPr>
              <a:t>圖二，因為第一個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  <a:ea typeface="超研澤粗仿"/>
              </a:rPr>
              <a:t>九宮格的數字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超研澤粗仿"/>
              </a:rPr>
              <a:t>不在第一行，也不在第一、三列，所以只能在第二列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  <a:ea typeface="超研澤粗仿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超研澤粗仿"/>
              </a:rPr>
              <a:t>填有數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超研澤粗仿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超研澤粗仿"/>
              </a:rPr>
              <a:t>上，而第二個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  <a:ea typeface="超研澤粗仿"/>
              </a:rPr>
              <a:t>九宮格的數字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超研澤粗仿"/>
              </a:rPr>
              <a:t>，因為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  <a:ea typeface="超研澤粗仿"/>
              </a:rPr>
              <a:t>第一、三個九宮格的數字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  <a:ea typeface="超研澤粗仿"/>
              </a:rPr>
              <a:t>，分別佔據第二列與第一列，所以只能在第三列的小方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超研澤粗仿"/>
              </a:rPr>
              <a:t>內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  <a:ea typeface="超研澤粗仿"/>
              </a:rPr>
              <a:t>。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6" name="corel041" descr=""/>
          <p:cNvPicPr/>
          <p:nvPr/>
        </p:nvPicPr>
        <p:blipFill>
          <a:blip r:embed="rId2"/>
          <a:stretch/>
        </p:blipFill>
        <p:spPr>
          <a:xfrm>
            <a:off x="2819520" y="4191120"/>
            <a:ext cx="3733560" cy="24289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6019920" y="419112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437920" y="4419720"/>
            <a:ext cx="3581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571500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971800" y="3962520"/>
            <a:ext cx="0" cy="2666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276720" y="5029200"/>
            <a:ext cx="304560" cy="228600"/>
            <a:chOff x="3276720" y="5029200"/>
            <a:chExt cx="304560" cy="228600"/>
          </a:xfrm>
        </p:grpSpPr>
        <p:sp>
          <p:nvSpPr>
            <p:cNvPr id="352" name=""/>
            <p:cNvSpPr/>
            <p:nvPr/>
          </p:nvSpPr>
          <p:spPr>
            <a:xfrm>
              <a:off x="3276720" y="5029200"/>
              <a:ext cx="3045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276720" y="5029200"/>
              <a:ext cx="3045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657600" y="5029200"/>
            <a:ext cx="304560" cy="228600"/>
            <a:chOff x="3657600" y="5029200"/>
            <a:chExt cx="304560" cy="228600"/>
          </a:xfrm>
        </p:grpSpPr>
        <p:sp>
          <p:nvSpPr>
            <p:cNvPr id="355" name=""/>
            <p:cNvSpPr/>
            <p:nvPr/>
          </p:nvSpPr>
          <p:spPr>
            <a:xfrm>
              <a:off x="3657600" y="5029200"/>
              <a:ext cx="3045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657600" y="5029200"/>
              <a:ext cx="3045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2895480" y="4267080"/>
            <a:ext cx="1219320" cy="11019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76720" y="4648320"/>
            <a:ext cx="685800" cy="30456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4800600"/>
            <a:ext cx="297180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4572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38480" y="4267080"/>
            <a:ext cx="1295640" cy="11430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495680" y="5029200"/>
            <a:ext cx="304560" cy="228600"/>
            <a:chOff x="4495680" y="5029200"/>
            <a:chExt cx="304560" cy="228600"/>
          </a:xfrm>
        </p:grpSpPr>
        <p:sp>
          <p:nvSpPr>
            <p:cNvPr id="363" name=""/>
            <p:cNvSpPr/>
            <p:nvPr/>
          </p:nvSpPr>
          <p:spPr>
            <a:xfrm>
              <a:off x="4495680" y="5029200"/>
              <a:ext cx="3045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4495680" y="5029200"/>
              <a:ext cx="3045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114800" y="5029200"/>
            <a:ext cx="304560" cy="228600"/>
            <a:chOff x="4114800" y="5029200"/>
            <a:chExt cx="304560" cy="228600"/>
          </a:xfrm>
        </p:grpSpPr>
        <p:sp>
          <p:nvSpPr>
            <p:cNvPr id="366" name=""/>
            <p:cNvSpPr/>
            <p:nvPr/>
          </p:nvSpPr>
          <p:spPr>
            <a:xfrm>
              <a:off x="4114800" y="5029200"/>
              <a:ext cx="3045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4114800" y="5029200"/>
              <a:ext cx="3045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952880" y="5029200"/>
            <a:ext cx="304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120" y="4343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3300"/>
                </a:solidFill>
                <a:latin typeface="超研澤超圓"/>
                <a:ea typeface="超研澤超圓"/>
              </a:rPr>
              <a:t>不能是數字 </a:t>
            </a:r>
            <a:r>
              <a:rPr b="0" lang="zh-TW" sz="2000" spc="-1" strike="noStrike">
                <a:solidFill>
                  <a:srgbClr val="ff3300"/>
                </a:solidFill>
                <a:latin typeface="超研澤超圓"/>
                <a:ea typeface="超研澤超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800" spc="-1" strike="noStrike">
                <a:solidFill>
                  <a:srgbClr val="ff3300"/>
                </a:solidFill>
                <a:latin typeface="Amazone BT"/>
                <a:ea typeface="超研澤海報體"/>
              </a:rPr>
              <a:t>簡易的方法運用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360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超研澤粗仿"/>
              </a:rPr>
              <a:t>圖三，因為每一列只能是數字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Arial"/>
              </a:rPr>
              <a:t>1~9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超研澤粗仿"/>
              </a:rPr>
              <a:t>的重排組合，而在第一列中所缺少的數字為</a:t>
            </a:r>
            <a:r>
              <a:rPr b="0" lang="zh-TW" sz="2600" spc="-1" strike="noStrike">
                <a:solidFill>
                  <a:srgbClr val="000000"/>
                </a:solidFill>
                <a:latin typeface="Tahoma"/>
                <a:ea typeface="超研澤粗仿"/>
              </a:rPr>
              <a:t>{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Arial"/>
              </a:rPr>
              <a:t> 1</a:t>
            </a:r>
            <a:r>
              <a:rPr b="0" lang="zh-TW" sz="2600" spc="-1" strike="noStrike">
                <a:solidFill>
                  <a:srgbClr val="000000"/>
                </a:solidFill>
                <a:latin typeface="Tahoma"/>
                <a:ea typeface="超研澤粗仿"/>
              </a:rPr>
              <a:t>,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zh-TW" sz="2600" spc="-1" strike="noStrike">
                <a:solidFill>
                  <a:srgbClr val="000000"/>
                </a:solidFill>
                <a:latin typeface="Tahoma"/>
                <a:ea typeface="超研澤粗仿"/>
              </a:rPr>
              <a:t>,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zh-TW" sz="2600" spc="-1" strike="noStrike">
                <a:solidFill>
                  <a:srgbClr val="000000"/>
                </a:solidFill>
                <a:latin typeface="Tahoma"/>
                <a:ea typeface="超研澤粗仿"/>
              </a:rPr>
              <a:t> }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超研澤粗仿"/>
              </a:rPr>
              <a:t>，所以小方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超研澤粗仿"/>
              </a:rPr>
              <a:t>只能是數字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超研澤粗仿"/>
              </a:rPr>
              <a:t>或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超研澤粗仿"/>
              </a:rPr>
              <a:t>或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超研澤粗仿"/>
              </a:rPr>
              <a:t>其中一個，又第一行已經有數字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超研澤粗仿"/>
              </a:rPr>
              <a:t>與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zh-TW" sz="2600" spc="-1" strike="noStrike">
                <a:solidFill>
                  <a:srgbClr val="000000"/>
                </a:solidFill>
                <a:latin typeface="Tahoma"/>
                <a:ea typeface="超研澤粗仿"/>
              </a:rPr>
              <a:t> (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超研澤粗仿"/>
              </a:rPr>
              <a:t>第四個九宮格內</a:t>
            </a:r>
            <a:r>
              <a:rPr b="0" lang="zh-TW" sz="2600" spc="-1" strike="noStrike">
                <a:solidFill>
                  <a:srgbClr val="000000"/>
                </a:solidFill>
                <a:latin typeface="Tahoma"/>
                <a:ea typeface="超研澤粗仿"/>
              </a:rPr>
              <a:t>)</a:t>
            </a:r>
            <a:r>
              <a:rPr b="0" lang="zh-TW" sz="2600" spc="-1" strike="noStrike">
                <a:solidFill>
                  <a:srgbClr val="000000"/>
                </a:solidFill>
                <a:latin typeface="Times New Roman"/>
                <a:ea typeface="超研澤粗仿"/>
              </a:rPr>
              <a:t>，所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 = 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超研澤粗仿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2" name="corel042" descr=""/>
          <p:cNvPicPr/>
          <p:nvPr/>
        </p:nvPicPr>
        <p:blipFill>
          <a:blip r:embed="rId2"/>
          <a:stretch/>
        </p:blipFill>
        <p:spPr>
          <a:xfrm>
            <a:off x="2514600" y="4114800"/>
            <a:ext cx="3886200" cy="25416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 flipV="1">
            <a:off x="2819520" y="3886200"/>
            <a:ext cx="0" cy="2743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209320" y="4343400"/>
            <a:ext cx="43434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41148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超研澤中特黑"/>
              </a:rPr>
              <a:t>不是數字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2~7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62485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  <a:ea typeface="超研澤中特黑"/>
              </a:rPr>
              <a:t>不是數字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8,9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800" spc="-1" strike="noStrike">
                <a:solidFill>
                  <a:srgbClr val="ff3300"/>
                </a:solidFill>
                <a:latin typeface="Amazone BT"/>
                <a:ea typeface="超研澤海報體"/>
              </a:rPr>
              <a:t>牛刀小試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990720" y="2133720"/>
          <a:ext cx="3763800" cy="392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3763800" cy="39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6858000" y="1447920"/>
            <a:ext cx="38088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38880" y="1447920"/>
            <a:ext cx="38124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20120" y="1447920"/>
            <a:ext cx="38088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01000" y="1447920"/>
            <a:ext cx="38088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381880" y="1447920"/>
            <a:ext cx="38124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0" y="1981080"/>
            <a:ext cx="38088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38880" y="1981080"/>
            <a:ext cx="38124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20120" y="1981080"/>
            <a:ext cx="38088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1981080"/>
            <a:ext cx="38088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81880" y="1981080"/>
            <a:ext cx="38124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15000" y="1981080"/>
            <a:ext cx="38088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5880" y="1981080"/>
            <a:ext cx="38124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77120" y="1981080"/>
            <a:ext cx="38088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381880" y="2514600"/>
            <a:ext cx="38124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77120" y="2514600"/>
            <a:ext cx="38088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58000" y="2514600"/>
            <a:ext cx="38088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38880" y="2514600"/>
            <a:ext cx="38124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20120" y="2514600"/>
            <a:ext cx="38088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001000" y="2514600"/>
            <a:ext cx="38088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5880" y="3048120"/>
            <a:ext cx="38124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0" y="304812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38880" y="3048120"/>
            <a:ext cx="38124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0120" y="304812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001000" y="304812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381880" y="3048120"/>
            <a:ext cx="38124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0" y="3581280"/>
            <a:ext cx="38088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3581280"/>
            <a:ext cx="38124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20120" y="3581280"/>
            <a:ext cx="38088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01000" y="3581280"/>
            <a:ext cx="38088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81880" y="3581280"/>
            <a:ext cx="38124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0" y="4114800"/>
            <a:ext cx="380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238880" y="4114800"/>
            <a:ext cx="38124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20120" y="4114800"/>
            <a:ext cx="380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01000" y="4114800"/>
            <a:ext cx="380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381880" y="4114800"/>
            <a:ext cx="38124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95880" y="4648320"/>
            <a:ext cx="38124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4114800"/>
            <a:ext cx="380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81880" y="4648320"/>
            <a:ext cx="38124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77120" y="4648320"/>
            <a:ext cx="38088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58000" y="4648320"/>
            <a:ext cx="38088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4648320"/>
            <a:ext cx="38124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0120" y="4648320"/>
            <a:ext cx="38088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001000" y="4648320"/>
            <a:ext cx="38088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0" y="518148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238880" y="5181480"/>
            <a:ext cx="38124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20120" y="518148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001000" y="518148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81880" y="5181480"/>
            <a:ext cx="38124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77120" y="3581280"/>
            <a:ext cx="38088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5880" y="5791320"/>
            <a:ext cx="38124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81880" y="5791320"/>
            <a:ext cx="38124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77120" y="5791320"/>
            <a:ext cx="38088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58000" y="5791320"/>
            <a:ext cx="38088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238880" y="5791320"/>
            <a:ext cx="38124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20120" y="5791320"/>
            <a:ext cx="38088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001000" y="5791320"/>
            <a:ext cx="38088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477120" y="1447920"/>
            <a:ext cx="38088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5880" y="1447920"/>
            <a:ext cx="38124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15000" y="1447920"/>
            <a:ext cx="38088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34120" y="1447920"/>
            <a:ext cx="38088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34120" y="1981080"/>
            <a:ext cx="38088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95880" y="2514600"/>
            <a:ext cx="38124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15000" y="2514600"/>
            <a:ext cx="38088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34120" y="2514600"/>
            <a:ext cx="38088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15000" y="304812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4120" y="304812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5880" y="3581280"/>
            <a:ext cx="38124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15000" y="3581280"/>
            <a:ext cx="38088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4120" y="3581280"/>
            <a:ext cx="38088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5880" y="4114800"/>
            <a:ext cx="38124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15000" y="4114800"/>
            <a:ext cx="380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4120" y="4114800"/>
            <a:ext cx="380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15000" y="4648320"/>
            <a:ext cx="38088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334120" y="4648320"/>
            <a:ext cx="38088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77120" y="518148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5880" y="5181480"/>
            <a:ext cx="38124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15000" y="518148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34120" y="518148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15000" y="5791320"/>
            <a:ext cx="38088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334120" y="5791320"/>
            <a:ext cx="38088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76212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800" spc="-1" strike="noStrike">
                <a:solidFill>
                  <a:srgbClr val="ff3300"/>
                </a:solidFill>
                <a:latin typeface="Amazone BT"/>
                <a:ea typeface="超研澤海報體"/>
              </a:rPr>
              <a:t>牛刀小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914400" y="2057400"/>
          <a:ext cx="3768840" cy="39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376884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6858000" y="1447920"/>
            <a:ext cx="38088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238880" y="1447920"/>
            <a:ext cx="38124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20120" y="1447920"/>
            <a:ext cx="38088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001000" y="1447920"/>
            <a:ext cx="38088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381880" y="1447920"/>
            <a:ext cx="38124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1981080"/>
            <a:ext cx="38088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1981080"/>
            <a:ext cx="38124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620120" y="1981080"/>
            <a:ext cx="38088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001000" y="1981080"/>
            <a:ext cx="38088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81880" y="1981080"/>
            <a:ext cx="38124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15000" y="1981080"/>
            <a:ext cx="38088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5880" y="1981080"/>
            <a:ext cx="38124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77120" y="1981080"/>
            <a:ext cx="38088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1880" y="2514600"/>
            <a:ext cx="38124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477120" y="2514600"/>
            <a:ext cx="38088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0" y="2514600"/>
            <a:ext cx="38088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2514600"/>
            <a:ext cx="38124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620120" y="2514600"/>
            <a:ext cx="38088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001000" y="2514600"/>
            <a:ext cx="38088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95880" y="3048120"/>
            <a:ext cx="38124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0" y="304812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238880" y="3048120"/>
            <a:ext cx="38124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20120" y="304812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001000" y="304812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381880" y="3048120"/>
            <a:ext cx="38124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0" y="3581280"/>
            <a:ext cx="38088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238880" y="3581280"/>
            <a:ext cx="38124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3581280"/>
            <a:ext cx="38088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001000" y="3581280"/>
            <a:ext cx="38088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381880" y="3581280"/>
            <a:ext cx="38124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0" y="4114800"/>
            <a:ext cx="380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238880" y="4114800"/>
            <a:ext cx="38124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4114800"/>
            <a:ext cx="380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001000" y="4114800"/>
            <a:ext cx="380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381880" y="4114800"/>
            <a:ext cx="38124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95880" y="4648320"/>
            <a:ext cx="38124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477120" y="4114800"/>
            <a:ext cx="380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381880" y="4648320"/>
            <a:ext cx="38124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477120" y="4648320"/>
            <a:ext cx="38088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4648320"/>
            <a:ext cx="38088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38880" y="4648320"/>
            <a:ext cx="38124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20120" y="4648320"/>
            <a:ext cx="38088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001000" y="4648320"/>
            <a:ext cx="38088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858000" y="518148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238880" y="5181480"/>
            <a:ext cx="38124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620120" y="518148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001000" y="518148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381880" y="5181480"/>
            <a:ext cx="38124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477120" y="3581280"/>
            <a:ext cx="38088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5880" y="5791320"/>
            <a:ext cx="38124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381880" y="5791320"/>
            <a:ext cx="38124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77120" y="5791320"/>
            <a:ext cx="38088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0" y="5791320"/>
            <a:ext cx="38088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238880" y="5791320"/>
            <a:ext cx="38124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620120" y="5791320"/>
            <a:ext cx="38088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001000" y="5791320"/>
            <a:ext cx="38088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477120" y="1447920"/>
            <a:ext cx="38088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447920"/>
            <a:ext cx="38124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5000" y="1447920"/>
            <a:ext cx="38088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4120" y="1447920"/>
            <a:ext cx="38088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334120" y="1981080"/>
            <a:ext cx="38088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5880" y="2514600"/>
            <a:ext cx="38124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15000" y="2514600"/>
            <a:ext cx="38088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34120" y="2514600"/>
            <a:ext cx="38088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15000" y="304812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334120" y="304812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5880" y="3581280"/>
            <a:ext cx="38124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15000" y="3581280"/>
            <a:ext cx="38088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34120" y="3581280"/>
            <a:ext cx="38088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5880" y="4114800"/>
            <a:ext cx="38124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15000" y="4114800"/>
            <a:ext cx="380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34120" y="4114800"/>
            <a:ext cx="380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15000" y="4648320"/>
            <a:ext cx="38088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34120" y="4648320"/>
            <a:ext cx="38088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77120" y="518148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5880" y="5181480"/>
            <a:ext cx="38124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15000" y="518148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34120" y="518148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15000" y="5791320"/>
            <a:ext cx="38088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34120" y="5791320"/>
            <a:ext cx="38088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6858000" y="1447920"/>
            <a:ext cx="38088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238880" y="1447920"/>
            <a:ext cx="38124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620120" y="1447920"/>
            <a:ext cx="38088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001000" y="1447920"/>
            <a:ext cx="38088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381880" y="1447920"/>
            <a:ext cx="38124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0" y="1981080"/>
            <a:ext cx="38088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238880" y="1981080"/>
            <a:ext cx="38124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620120" y="1981080"/>
            <a:ext cx="38088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001000" y="1981080"/>
            <a:ext cx="38088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381880" y="1981080"/>
            <a:ext cx="38124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715000" y="1981080"/>
            <a:ext cx="38088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95880" y="1981080"/>
            <a:ext cx="38124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477120" y="1981080"/>
            <a:ext cx="38088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381880" y="2514600"/>
            <a:ext cx="38124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77120" y="2514600"/>
            <a:ext cx="38088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0" y="2514600"/>
            <a:ext cx="38088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238880" y="2514600"/>
            <a:ext cx="38124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20120" y="2514600"/>
            <a:ext cx="38088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001000" y="2514600"/>
            <a:ext cx="38088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95880" y="3048120"/>
            <a:ext cx="38124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0" y="304812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238880" y="3048120"/>
            <a:ext cx="38124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20120" y="304812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001000" y="304812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81880" y="3048120"/>
            <a:ext cx="38124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858000" y="3581280"/>
            <a:ext cx="38088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238880" y="3581280"/>
            <a:ext cx="38124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620120" y="3581280"/>
            <a:ext cx="38088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001000" y="3581280"/>
            <a:ext cx="38088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1880" y="3581280"/>
            <a:ext cx="38124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0" y="4114800"/>
            <a:ext cx="380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238880" y="4114800"/>
            <a:ext cx="38124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620120" y="4114800"/>
            <a:ext cx="380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001000" y="4114800"/>
            <a:ext cx="380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381880" y="4114800"/>
            <a:ext cx="38124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95880" y="4648320"/>
            <a:ext cx="38124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477120" y="4114800"/>
            <a:ext cx="380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381880" y="4648320"/>
            <a:ext cx="38124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77120" y="4648320"/>
            <a:ext cx="38088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858000" y="4648320"/>
            <a:ext cx="38088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38880" y="4648320"/>
            <a:ext cx="38124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620120" y="4648320"/>
            <a:ext cx="38088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001000" y="4648320"/>
            <a:ext cx="38088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0" y="518148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38880" y="5181480"/>
            <a:ext cx="38124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20120" y="518148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001000" y="518148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1880" y="5181480"/>
            <a:ext cx="38124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477120" y="3581280"/>
            <a:ext cx="38088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95880" y="5791320"/>
            <a:ext cx="38124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81880" y="5791320"/>
            <a:ext cx="38124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477120" y="5791320"/>
            <a:ext cx="38088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858000" y="5791320"/>
            <a:ext cx="38088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238880" y="5791320"/>
            <a:ext cx="38124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620120" y="5791320"/>
            <a:ext cx="38088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001000" y="5791320"/>
            <a:ext cx="38088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800" spc="-1" strike="noStrike">
                <a:solidFill>
                  <a:srgbClr val="ff3300"/>
                </a:solidFill>
                <a:latin typeface="Amazone BT"/>
                <a:ea typeface="超研澤海報體"/>
              </a:rPr>
              <a:t>牛刀小試</a:t>
            </a: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990720" y="2133720"/>
          <a:ext cx="3768480" cy="39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376848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6477120" y="1447920"/>
            <a:ext cx="38088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95880" y="1447920"/>
            <a:ext cx="38124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15000" y="1447920"/>
            <a:ext cx="38088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34120" y="1447920"/>
            <a:ext cx="38088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34120" y="1981080"/>
            <a:ext cx="380880" cy="459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095880" y="2514600"/>
            <a:ext cx="38124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2514600"/>
            <a:ext cx="38088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34120" y="2514600"/>
            <a:ext cx="380880" cy="459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715000" y="304812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4120" y="304812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095880" y="3581280"/>
            <a:ext cx="38124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715000" y="3581280"/>
            <a:ext cx="38088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34120" y="3581280"/>
            <a:ext cx="380880" cy="45972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095880" y="4114800"/>
            <a:ext cx="38124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715000" y="4114800"/>
            <a:ext cx="380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334120" y="4114800"/>
            <a:ext cx="380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715000" y="4648320"/>
            <a:ext cx="38088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34120" y="4648320"/>
            <a:ext cx="38088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477120" y="518148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5880" y="5181480"/>
            <a:ext cx="38124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15000" y="518148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34120" y="5181480"/>
            <a:ext cx="380880" cy="459720"/>
          </a:xfrm>
          <a:prstGeom prst="rect">
            <a:avLst/>
          </a:prstGeom>
          <a:solidFill>
            <a:srgbClr val="cc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15000" y="5791320"/>
            <a:ext cx="38088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4120" y="5791320"/>
            <a:ext cx="380880" cy="4597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ntasia.</cp:lastModifiedBy>
  <dcterms:modified xsi:type="dcterms:W3CDTF">2001-09-19T04:52:21Z</dcterms:modified>
  <cp:revision>17</cp:revision>
  <dc:subject/>
  <dc:title>PowerPoint Presentation</dc:title>
</cp:coreProperties>
</file>